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109-7ABA-4EE3-93A7-7E9FB14E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2D7-B597-4820-AFE9-BB88381B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541-7322-455F-B1FE-9B8FA078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425-F51A-4284-9490-B1FB764D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1FDAC-F1B1-4BE2-BEBF-F620F3C1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BF6E8-5F27-4FB1-A896-91B9B8E3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58100-7F0F-4A6E-9949-DB49FA99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C0DD6-91A3-4E9A-967F-95F1A731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87586-7944-4CC3-A519-AF20A4A0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B68DD-2CEE-444F-91CE-B7A451EC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0E344-FB6E-4534-B2B4-E08C6969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A35-1691-4CA2-A199-1FBD2827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58844-84E0-4DA6-B916-1C09A084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16E76-4079-4D69-B427-A4D65F3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B0CFE-71A1-438E-92AE-106DA147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3ED7F-CE82-4151-915A-B3EFD2E8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FC6E6-1F3C-4D4C-9F5E-2E1E083E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66F-EAEF-4436-9E16-0315CAAB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1F1-7985-433F-999F-79CE8AB6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0B4-6660-4C8E-BC5B-1B43066B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6C9-CAC4-4187-AB0C-FAF7327E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1ED-4890-4EBE-AE88-0A7D5A21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A9C-364D-4B0C-8C9E-76C1AD13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1F61-A6D0-4C41-990C-2ADEA0DC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C2BF-041A-4206-9D9D-B8EDCD4F07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CD0B-524D-4AFA-87C2-72B4CB8D6E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Как это происходило…</a:t>
            </a:r>
            <a:br>
              <a:rPr sz="48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дневник школы №88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овление молодых специалис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 уроке английского язы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24000" y="2205000"/>
            <a:ext cx="4464000" cy="2975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030040" y="5589720"/>
            <a:ext cx="48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Казачёнок Анны Викторов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Мои маленькие успех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319640" cy="3173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76720" y="2492280"/>
            <a:ext cx="333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опрезентацию проводит социальный педагог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йб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юдмила Владими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2367000"/>
            <a:ext cx="4246560" cy="3182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076720" y="2565360"/>
            <a:ext cx="379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пьютерную презентацию подготовила логопед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лодилова Ольга Васил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кончилась неделя молодого специалис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дводим итоги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икой преподавания овладеваем – р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ей перестали бояться – д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школе решили остаться – тр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это - главное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чало учебного года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 нам прибыли молодые специалисты, те, кто решил связать свою жизнь со школо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зачёнок Анна Викто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селёва Ольга Леонид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лодилова Ольга Василь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йбо Людмила Владими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рейдер Алёна Владими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Школьный праздни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11280" y="2349360"/>
            <a:ext cx="3961080" cy="2714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19280" y="56610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зале ветераны труда, молодые учителя, уче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ка сложно решить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некоторые вопрос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41767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сим совета у наставника</a:t>
            </a:r>
            <a:br>
              <a:rPr sz="40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Наталья Николаевна Глаголева – наставник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йбо Людмилы Владимировны, социального педагог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417672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 это непросто – оказаться один на один с класс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566100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Учитель русского языка Шрейдер Алёна Владимиров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340000" y="2349360"/>
            <a:ext cx="43196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рактические занят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«Моделирование современного урока», «Организация познавательной деятельности на уроке»;</a:t>
            </a: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Лектори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Через предмет – к культуре здоровья»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Управление тревожностью на уроке и проблемы дисциплины».</a:t>
            </a: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Беседы с наставниками</a:t>
            </a: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еделя молодого специалис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ё это было, был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530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10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 вот урок-дебю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уроке литера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528920" y="5589720"/>
            <a:ext cx="649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Алёны Владимировны Шрейдер интересно вс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11280" y="2276640"/>
            <a:ext cx="424836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Урок русского язы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4248360" cy="2558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11960" y="5386320"/>
            <a:ext cx="57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од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селёва Ольга Леонид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5:21:16Z</dcterms:created>
  <dc:creator>Наталия</dc:creator>
  <dc:description/>
  <dc:language>en-US</dc:language>
  <cp:lastModifiedBy>309-pc9</cp:lastModifiedBy>
  <dcterms:modified xsi:type="dcterms:W3CDTF">2004-03-29T02:47:03Z</dcterms:modified>
  <cp:revision>7</cp:revision>
  <dc:subject/>
  <dc:title>Работа с молодыми специалист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