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AB8-6816-480C-AF5D-5ACA66FF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334-2217-4BF2-B87C-755237A5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C80-CCEF-47FD-8372-41E37C80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329-679D-455C-A3E3-2127B125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9005-69F9-424F-AE42-60087B40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0D75-8DF9-4718-8906-11ADE437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8715-F1A6-4211-BC73-3FE095D7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5465-984A-45ED-BFB3-40D5A96F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C3F5-B90F-4C26-849C-DBB14B96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5004-72F7-4203-A4EF-7DB6E7D2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6EEA-E8E6-4D95-93A0-20DB4FEA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E8F-D462-4441-BF3A-BEFE3898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4720-44EA-4D15-A861-03DD5F49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5B5C-409B-4F19-831E-049D9DBE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6387-1E05-485B-9C4C-340CE674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834F-88D8-434C-9890-49C62813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509C-D809-4E6D-B428-C0DBC4BB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AC4-FE9B-4A71-9B05-152D0889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FCE-7E22-4D13-93D1-35C1ABDC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D4F-91AE-49A6-8BC0-D293D4DF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1CC-F710-471C-9927-3CF4E973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B8E-73F1-4061-A1A0-D1D02BF6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A86-2D62-4461-8D56-6DEDDFC0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2B9-3482-4D03-B72D-2E167475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65DB-EF05-463D-99F5-38711D0841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9CAE-9C7A-43B2-A3BC-8E15EE088A2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5616360" cy="42418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1699920"/>
            <a:ext cx="5256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300" spc="-1" strike="noStrike">
                <a:solidFill>
                  <a:srgbClr val="0000ff"/>
                </a:solidFill>
                <a:latin typeface="Monotype Corsiva"/>
              </a:rPr>
              <a:t>Д О У   №   256</a:t>
            </a:r>
            <a:br>
              <a:rPr sz="5300"/>
            </a:br>
            <a:r>
              <a:rPr b="1" i="1" lang="ru-RU" sz="3500" spc="-1" strike="noStrike">
                <a:solidFill>
                  <a:srgbClr val="0000ff"/>
                </a:solidFill>
                <a:latin typeface="Monotype Corsiva"/>
              </a:rPr>
              <a:t>Работа с молодыми специалистам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 advTm="29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-76,34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76,34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2b480"/>
                                      </p:to>
                                    </p:animClr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2b480"/>
                                      </p:to>
                                    </p:animClr>
                                    <p:set>
                                      <p:cBhvr>
                                        <p:cTn id="2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754380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Monotype Corsiva"/>
              </a:rPr>
              <a:t>Цель работы ДОУ № 256</a:t>
            </a: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 </a:t>
            </a:r>
            <a:r>
              <a:rPr b="0" lang="ru-RU" sz="3900" spc="-1" strike="noStrike">
                <a:solidFill>
                  <a:srgbClr val="330066"/>
                </a:solidFill>
                <a:latin typeface="Monotype Corsiva"/>
              </a:rPr>
              <a:t>с молодыми специалист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54848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66ff"/>
                </a:solidFill>
                <a:latin typeface="Monotype Corsiva"/>
              </a:rPr>
              <a:t>ОБЕСПЕЧЕ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66ff"/>
                </a:solidFill>
                <a:latin typeface="Monotype Corsiva"/>
              </a:rPr>
              <a:t>ПРОФЕССИОНАЛЬНОГ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66ff"/>
                </a:solidFill>
                <a:latin typeface="Monotype Corsiva"/>
              </a:rPr>
              <a:t> </a:t>
            </a:r>
            <a:r>
              <a:rPr b="1" i="1" lang="en-US" sz="3400" spc="-1" strike="noStrike">
                <a:solidFill>
                  <a:srgbClr val="cc66ff"/>
                </a:solidFill>
                <a:latin typeface="Monotype Corsiva"/>
              </a:rPr>
              <a:t>СТАНОВЛЕНИ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66ff"/>
                </a:solidFill>
                <a:latin typeface="Monotype Corsiva"/>
              </a:rPr>
              <a:t>МОЛОДОГО СПЕЦИАЛИС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9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38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51)"/>
                                      </p:to>
                                    </p:set>
                                    <p:set>
                                      <p:cBhvr>
                                        <p:cTn id="39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51)"/>
                                      </p:to>
                                    </p:set>
                                    <p:set>
                                      <p:cBhvr>
                                        <p:cTn id="4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560"/>
                            </p:stCondLst>
                            <p:childTnLst>
                              <p:par>
                                <p:cTn id="42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4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560"/>
                            </p:stCondLst>
                            <p:childTnLst>
                              <p:par>
                                <p:cTn id="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15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115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115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115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60"/>
                            </p:stCondLst>
                            <p:childTnLst>
                              <p:par>
                                <p:cTn id="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155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155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1155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956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155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1155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1155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256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155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1155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1155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1155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H="1">
            <a:off x="6156000" y="4869000"/>
            <a:ext cx="1152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66"/>
                </a:solidFill>
                <a:latin typeface="Monotype Corsiva"/>
              </a:rPr>
              <a:t>МОДЕЛЬ РАБОТЫ С МОЛОДЫМИ СПЕЦИАЛИСТАМИ ДОУ № 256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4365720"/>
            <a:ext cx="1513080" cy="93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4437000"/>
            <a:ext cx="1657440" cy="792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Tahoma"/>
              </a:rPr>
              <a:t>Психолог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330066"/>
                </a:solidFill>
                <a:latin typeface="Tahoma"/>
              </a:rPr>
              <a:t>служба Д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3357720"/>
            <a:ext cx="1728720" cy="86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Tahoma"/>
              </a:rPr>
              <a:t>Педаг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Tahoma"/>
              </a:rPr>
              <a:t>самообра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060640"/>
            <a:ext cx="1657080" cy="79200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Tahoma"/>
              </a:rPr>
              <a:t>Участие в 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24360" y="2060640"/>
            <a:ext cx="1800360" cy="936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Tahoma"/>
              </a:rPr>
              <a:t>Посещ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Tahoma"/>
              </a:rPr>
              <a:t>занятий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Tahoma"/>
              </a:rPr>
              <a:t>последующ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Tahoma"/>
              </a:rPr>
              <a:t>самоанали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2133720"/>
            <a:ext cx="1657440" cy="8636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Tahoma"/>
              </a:rPr>
              <a:t>Курсы повы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Tahoma"/>
              </a:rPr>
              <a:t>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4437000"/>
            <a:ext cx="1657080" cy="86364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Tahoma"/>
              </a:rPr>
              <a:t>Контроль 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330066"/>
                </a:solidFill>
                <a:latin typeface="Tahoma"/>
              </a:rPr>
              <a:t>рабо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Tahoma"/>
              </a:rPr>
              <a:t>наставника</a:t>
            </a:r>
            <a:r>
              <a:rPr b="0" lang="en-US" sz="1200" spc="-1" strike="noStrike">
                <a:solidFill>
                  <a:srgbClr val="33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4437000"/>
            <a:ext cx="3024360" cy="1297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ahoma"/>
              </a:rPr>
              <a:t>МОЛОД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ahoma"/>
              </a:rPr>
              <a:t>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494172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3933720"/>
            <a:ext cx="107964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16360" y="2997360"/>
            <a:ext cx="107928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3284640"/>
            <a:ext cx="1657440" cy="7920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Tahoma"/>
              </a:rPr>
              <a:t>НАСТАВ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866920" y="407664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292360" y="2997360"/>
            <a:ext cx="10796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9000"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680"/>
                            </p:stCondLst>
                            <p:childTnLst>
                              <p:par>
                                <p:cTn id="97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274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Monotype Corsiva"/>
              </a:rPr>
              <a:t>Инструктор по Физической Культуре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131640" y="2017800"/>
            <a:ext cx="58230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Проявченко Валентина Викторовна инструктор по ФК ДОУ № 25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2000 г. закончила Красноярский государственный педагогический университет, получила диплом преподавателя физической культуры, методиста лечебной физ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«В сентябре 2000 года Я переступила порог детского сада, и вот уже три года работаю с дошколятами. За это время ни разу не пожалела об этом. Почувствовала интерес к педагогической работе. У меня появилась возможность проявить себя профессионально, раскрыться в новых качества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3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80"/>
                            </p:stCondLst>
                            <p:childTnLst>
                              <p:par>
                                <p:cTn id="121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1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3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3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Monotype Corsiva"/>
              </a:rPr>
              <a:t>Приоритетное направление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360" y="1844640"/>
            <a:ext cx="4390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Georgia"/>
              </a:rPr>
              <a:t>Валентина Викторовна проводит большую работу по сохранению и укреплению здоровья, физическому развитию детей. Приоритетом в ее работе является формирование правильной осанки у детей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37492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234972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blinds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41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640"/>
                            </p:stCondLst>
                            <p:childTnLst>
                              <p:par>
                                <p:cTn id="145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animClr clrSpc="rgb">
                                      <p:cBhvr>
                                        <p:cTn id="1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14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64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140"/>
                            </p:stCondLst>
                            <p:childTnLst>
                              <p:par>
                                <p:cTn id="15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6615"/>
                            </p:stCondLst>
                            <p:childTnLst>
                              <p:par>
                                <p:cTn id="1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9615"/>
                            </p:stCondLst>
                            <p:childTnLst>
                              <p:par>
                                <p:cTn id="16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5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255"/>
                            </p:stCondLst>
                            <p:childTnLst>
                              <p:par>
                                <p:cTn id="167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1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70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801360"/>
            <a:ext cx="7543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330066"/>
                </a:solidFill>
                <a:latin typeface="Monotype Corsiva"/>
              </a:rPr>
              <a:t>Результаты работы</a:t>
            </a:r>
            <a:endParaRPr b="1" lang="en-US" sz="6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70440" y="1719360"/>
            <a:ext cx="4573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Monotype Corsiva"/>
              </a:rPr>
              <a:t>   </a:t>
            </a:r>
            <a:r>
              <a:rPr b="1" lang="en-US" sz="2400" spc="-1" strike="noStrike">
                <a:solidFill>
                  <a:srgbClr val="330066"/>
                </a:solidFill>
                <a:latin typeface="Monotype Corsiva"/>
              </a:rPr>
              <a:t>Валентина Викторовна  постоянно в творческом поис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Monotype Corsiva"/>
              </a:rPr>
              <a:t>Разработала  диагностику по отслеживанию результатов по плава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Monotype Corsiva"/>
              </a:rPr>
              <a:t>Ее воспитанники участники всех спортивных соревнований среди детей дошкольного возраста Ленинского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66"/>
                </a:solidFill>
                <a:latin typeface="Monotype Corsiva"/>
              </a:rPr>
              <a:t>По результатам диагност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2400480" cy="1904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36232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blinds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81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52)"/>
                                      </p:to>
                                    </p:set>
                                    <p:set>
                                      <p:cBhvr>
                                        <p:cTn id="18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52)"/>
                                      </p:to>
                                    </p:set>
                                    <p:set>
                                      <p:cBhvr>
                                        <p:cTn id="18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800"/>
                            </p:stCondLst>
                            <p:childTnLst>
                              <p:par>
                                <p:cTn id="185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e9ce8"/>
                                      </p:to>
                                    </p:animClr>
                                    <p:animClr clrSpc="rgb">
                                      <p:cBhvr>
                                        <p:cTn id="18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e9ce8"/>
                                      </p:to>
                                    </p:animClr>
                                    <p:set>
                                      <p:cBhvr>
                                        <p:cTn id="188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80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800"/>
                            </p:stCondLst>
                            <p:childTnLst>
                              <p:par>
                                <p:cTn id="1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6800"/>
                            </p:stCondLst>
                            <p:childTnLst>
                              <p:par>
                                <p:cTn id="1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9800"/>
                            </p:stCondLst>
                            <p:childTnLst>
                              <p:par>
                                <p:cTn id="2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2800"/>
                            </p:stCondLst>
                            <p:childTnLst>
                              <p:par>
                                <p:cTn id="20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08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09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10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1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13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14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15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1040"/>
                            </p:stCondLst>
                            <p:childTnLst>
                              <p:par>
                                <p:cTn id="21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18" dur="3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19" dur="3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20" dur="3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320"/>
                            </p:stCondLst>
                            <p:childTnLst>
                              <p:par>
                                <p:cTn id="22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24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1200"/>
                            </p:stCondLst>
                            <p:childTnLst>
                              <p:par>
                                <p:cTn id="227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8d8ec"/>
                                      </p:to>
                                    </p:animClr>
                                    <p:animClr clrSpc="rgb">
                                      <p:cBhvr>
                                        <p:cTn id="2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8d8ec"/>
                                      </p:to>
                                    </p:animClr>
                                    <p:set>
                                      <p:cBhvr>
                                        <p:cTn id="230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8d8ec"/>
                                      </p:to>
                                    </p:animClr>
                                    <p:animClr clrSpc="rgb">
                                      <p:cBhvr>
                                        <p:cTn id="2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8d8ec"/>
                                      </p:to>
                                    </p:animClr>
                                    <p:set>
                                      <p:cBhvr>
                                        <p:cTn id="235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8d8ec"/>
                                      </p:to>
                                    </p:animClr>
                                    <p:animClr clrSpc="rgb">
                                      <p:cBhvr>
                                        <p:cTn id="2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8d8ec"/>
                                      </p:to>
                                    </p:animClr>
                                    <p:set>
                                      <p:cBhvr>
                                        <p:cTn id="240" dur="3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4200"/>
                            </p:stCondLst>
                            <p:childTnLst>
                              <p:par>
                                <p:cTn id="243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8d8ec"/>
                                      </p:to>
                                    </p:animClr>
                                    <p:animClr clrSpc="rgb">
                                      <p:cBhvr>
                                        <p:cTn id="2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8d8ec"/>
                                      </p:to>
                                    </p:animClr>
                                    <p:set>
                                      <p:cBhvr>
                                        <p:cTn id="246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66"/>
                </a:solidFill>
                <a:latin typeface="Monotype Corsiva"/>
              </a:rPr>
              <a:t>Диаграмма уровня физической подготовки детей подготовительной к школе группы.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5373720"/>
            <a:ext cx="8415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Из  диаграммы видно, что наблюдается  динамика уровня  развития   физической подготовки детей подготовительной к школе групп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0 – 2001 уч.г.  - 16%  (количество детей – 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1-2002   уч.г. –   11% (количество детей – 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2- 2003  уч.г.   – 11%(количество детей – 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Таким образом, ежегодно  увеличивается  уровень  физической подготовки детей подготовительной к школе группы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00000" y="1989000"/>
          <a:ext cx="734400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89000"/>
                    <a:ext cx="734400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29000">
    <p:blinds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860"/>
                            </p:stCondLst>
                            <p:childTnLst>
                              <p:par>
                                <p:cTn id="261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2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26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698508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Monotype Corsiva"/>
              </a:rPr>
              <a:t>Диаграмма уровня физической подготовки детей подготовительной к школе группы на занятиях по плаванию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5300640"/>
            <a:ext cx="7912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Из  диаграммы  видно,  что наблюдается динамика роста усвоения  плавательных движений детьми  подготовительной  к  школе групп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0-2001уч.г. -  16% (количество детей – 2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1-2002 уч.г.  – 20% (количество детей – 1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2-2003 уч.г. -  25 % (количество детей  - 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Таким образом: ежегодно  растет  количество детей  овладевающих   плавательными движения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7280" y="1628640"/>
          <a:ext cx="658188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58188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29000">
    <p:blinds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240"/>
                            </p:stCondLst>
                            <p:childTnLst>
                              <p:par>
                                <p:cTn id="279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2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282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0066"/>
                </a:solidFill>
                <a:latin typeface="Monotype Corsiva"/>
              </a:rPr>
              <a:t>Планы на будущее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2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Monotype Corsiva"/>
              </a:rPr>
              <a:t>В планах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2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Monotype Corsiva"/>
              </a:rPr>
              <a:t>Валентины Викторовны</a:t>
            </a:r>
            <a:r>
              <a:rPr b="1" lang="en-US" sz="3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400" spc="-1" strike="noStrike">
                <a:solidFill>
                  <a:srgbClr val="cc66ff"/>
                </a:solidFill>
                <a:latin typeface="Monotype Corsiva"/>
              </a:rPr>
              <a:t>создать свою</a:t>
            </a:r>
            <a:r>
              <a:rPr b="1" lang="en-US" sz="3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400" spc="-1" strike="noStrike">
                <a:solidFill>
                  <a:srgbClr val="cc66ff"/>
                </a:solidFill>
                <a:latin typeface="Monotype Corsiva"/>
              </a:rPr>
              <a:t>программу по обучению плаванию</a:t>
            </a:r>
            <a:r>
              <a:rPr b="1" lang="en-US" sz="3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400" spc="-1" strike="noStrike">
                <a:solidFill>
                  <a:srgbClr val="cc66ff"/>
                </a:solidFill>
                <a:latin typeface="Monotype Corsiva"/>
              </a:rPr>
              <a:t>детей дошкольного возраст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2387880" cy="1904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240048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blinds dir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760"/>
                            </p:stCondLst>
                            <p:childTnLst>
                              <p:par>
                                <p:cTn id="297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e9ce8"/>
                                      </p:to>
                                    </p:animClr>
                                    <p:animClr clrSpc="rgb">
                                      <p:cBhvr>
                                        <p:cTn id="2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e9ce8"/>
                                      </p:to>
                                    </p:animClr>
                                    <p:set>
                                      <p:cBhvr>
                                        <p:cTn id="300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760"/>
                            </p:stCondLst>
                            <p:childTnLst>
                              <p:par>
                                <p:cTn id="3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310"/>
                            </p:stCondLst>
                            <p:childTnLst>
                              <p:par>
                                <p:cTn id="318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4a4b0"/>
                                      </p:to>
                                    </p:animClr>
                                    <p:animClr clrSpc="rgb">
                                      <p:cBhvr>
                                        <p:cTn id="3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a4b0"/>
                                      </p:to>
                                    </p:animClr>
                                    <p:set>
                                      <p:cBhvr>
                                        <p:cTn id="321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4a4b0"/>
                                      </p:to>
                                    </p:animClr>
                                    <p:animClr clrSpc="rgb">
                                      <p:cBhvr>
                                        <p:cTn id="3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a4b0"/>
                                      </p:to>
                                    </p:animClr>
                                    <p:set>
                                      <p:cBhvr>
                                        <p:cTn id="326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3310"/>
                            </p:stCondLst>
                            <p:childTnLst>
                              <p:par>
                                <p:cTn id="32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08:53:18Z</dcterms:created>
  <dc:creator>Dennis</dc:creator>
  <dc:description/>
  <dc:language>en-US</dc:language>
  <cp:lastModifiedBy>Svlink</cp:lastModifiedBy>
  <dcterms:modified xsi:type="dcterms:W3CDTF">2004-04-14T16:18:47Z</dcterms:modified>
  <cp:revision>25</cp:revision>
  <dc:subject/>
  <dc:title>Слайд 1</dc:title>
</cp:coreProperties>
</file>